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408-C106-4D46-8382-1D1794C57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2F9-0CBB-4315-B8DF-E78BEA318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F693-4E8E-4470-93AD-0302365C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84ED-F21F-4EDD-8AA2-E06E30256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4D3DA-A40A-4BEF-BAE7-E839F3582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1635FC-9D6C-427D-A33C-CCEE09FD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B9FC8-92AC-4084-AB89-196A8C5B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E23A0B-3D54-4E98-9F15-4C746319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5A1A6-2D32-4678-95F7-7E0A1E60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E95A03-B3BC-4BC7-B2CA-79F5D3E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E37078-2823-4D16-9020-E2406C5D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D28-793E-4846-822D-1814841F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5C27FE-89CB-4F7C-B699-D27DDE91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357BDB-21EB-443E-823A-6F4365B6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7A703-9EE7-4348-B7B3-A8AE70AD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A07A4-D432-4101-91F2-D1A559405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553AA-1CB7-4065-AACC-282D6BA9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4995-EFF3-4096-BF8E-8051B449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398-4BFE-4ED8-AA2B-5C140BDC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F3BC-D0B2-490F-AAB7-3348D1EF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35A-99D3-42F5-A461-F0A735E7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049-ADF0-46D8-B5B6-4AB382E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5D5C-A16D-4FB1-B448-C1EF505F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9350-7724-4470-8CEB-65962CB0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53D3-A533-4108-87F3-017F15E907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61CD-2A61-4D17-86E5-BBE55470D32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3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Прямоугольник 5" descr=""/>
          <p:cNvPicPr/>
          <p:nvPr/>
        </p:nvPicPr>
        <p:blipFill>
          <a:blip r:embed="rId2"/>
          <a:stretch/>
        </p:blipFill>
        <p:spPr>
          <a:xfrm>
            <a:off x="523800" y="1444680"/>
            <a:ext cx="8169480" cy="3286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Рисунок 1" descr="http://i.artfile.ru/3536x3534_402397_%5bwww.ArtFile.ru%5d.jpg"/>
          <p:cNvPicPr/>
          <p:nvPr/>
        </p:nvPicPr>
        <p:blipFill>
          <a:blip r:embed="rId1"/>
          <a:stretch/>
        </p:blipFill>
        <p:spPr>
          <a:xfrm>
            <a:off x="304920" y="30492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3"/>
          <p:cNvSpPr/>
          <p:nvPr/>
        </p:nvSpPr>
        <p:spPr>
          <a:xfrm>
            <a:off x="6794640" y="4648320"/>
            <a:ext cx="20095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ДЕВОЧКА 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С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ffff"/>
                </a:solidFill>
                <a:latin typeface="Garamond"/>
              </a:rPr>
              <a:t>ПЕРСИКАМИ</a:t>
            </a: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Рисунок 1" descr="http://img827.imageshack.us/img827/9316/1chicadelaluzdelsolretr.jpg"/>
          <p:cNvPicPr/>
          <p:nvPr/>
        </p:nvPicPr>
        <p:blipFill>
          <a:blip r:embed="rId1"/>
          <a:stretch/>
        </p:blipFill>
        <p:spPr>
          <a:xfrm>
            <a:off x="228600" y="152280"/>
            <a:ext cx="5410080" cy="647712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6095880" y="4419720"/>
            <a:ext cx="25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Девушк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освещенна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aramond"/>
              </a:rPr>
              <a:t>солнце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Рисунок 1" descr="http://img1.liveinternet.ru/images/attach/c/8/102/732/102732263_Valentin_Serov.jpg"/>
          <p:cNvPicPr/>
          <p:nvPr/>
        </p:nvPicPr>
        <p:blipFill>
          <a:blip r:embed="rId1"/>
          <a:stretch/>
        </p:blipFill>
        <p:spPr>
          <a:xfrm>
            <a:off x="914400" y="22860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2804400" y="6019920"/>
            <a:ext cx="4131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Похищение Европы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Рисунок 1" descr="http://900igr.net/datas/izo/Portrety-CHekhova/0007-007-I.Levitan-1860-1900.jpg"/>
          <p:cNvPicPr/>
          <p:nvPr/>
        </p:nvPicPr>
        <p:blipFill>
          <a:blip r:embed="rId1"/>
          <a:stretch/>
        </p:blipFill>
        <p:spPr>
          <a:xfrm>
            <a:off x="457200" y="304920"/>
            <a:ext cx="8396280" cy="6021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7" name="Рисунок 1" descr="http://img.aucland.ru/market-photos/358/PqAquT.jpg"/>
          <p:cNvPicPr/>
          <p:nvPr/>
        </p:nvPicPr>
        <p:blipFill>
          <a:blip r:embed="rId1"/>
          <a:stretch/>
        </p:blipFill>
        <p:spPr>
          <a:xfrm>
            <a:off x="1219320" y="533520"/>
            <a:ext cx="7010280" cy="54100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3"/>
          <p:cNvSpPr/>
          <p:nvPr/>
        </p:nvSpPr>
        <p:spPr>
          <a:xfrm>
            <a:off x="4042440" y="6095880"/>
            <a:ext cx="14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Мар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Рисунок 1" descr="http://content.foto.mail.ru/mail/chestova/_blogs/i-1188.jpg"/>
          <p:cNvPicPr/>
          <p:nvPr/>
        </p:nvPicPr>
        <p:blipFill>
          <a:blip r:embed="rId1"/>
          <a:stretch/>
        </p:blipFill>
        <p:spPr>
          <a:xfrm>
            <a:off x="533520" y="0"/>
            <a:ext cx="7772400" cy="59436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4"/>
          <p:cNvSpPr/>
          <p:nvPr/>
        </p:nvSpPr>
        <p:spPr>
          <a:xfrm>
            <a:off x="2100960" y="6095880"/>
            <a:ext cx="4635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ffffff"/>
                </a:solidFill>
                <a:latin typeface="Garamond"/>
              </a:rPr>
              <a:t>ВЕСНА. БОЛЬШАЯ ВОДА.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Рисунок 1" descr="http://mamatanya.narod.ru/x-gallery/images/levitan-3.gif"/>
          <p:cNvPicPr/>
          <p:nvPr/>
        </p:nvPicPr>
        <p:blipFill>
          <a:blip r:embed="rId1"/>
          <a:stretch/>
        </p:blipFill>
        <p:spPr>
          <a:xfrm>
            <a:off x="762120" y="228600"/>
            <a:ext cx="7696080" cy="5181480"/>
          </a:xfrm>
          <a:prstGeom prst="rect">
            <a:avLst/>
          </a:prstGeom>
          <a:ln w="0">
            <a:noFill/>
          </a:ln>
        </p:spPr>
      </p:pic>
      <p:sp>
        <p:nvSpPr>
          <p:cNvPr id="164" name="TextBox 3"/>
          <p:cNvSpPr/>
          <p:nvPr/>
        </p:nvSpPr>
        <p:spPr>
          <a:xfrm>
            <a:off x="2559600" y="5791320"/>
            <a:ext cx="378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ЗОЛОТАЯ ОСЕН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Рисунок 1" descr="http://802351.info/uploads/posts/2012-01/thumbs/article_13264636828.jpeg"/>
          <p:cNvPicPr/>
          <p:nvPr/>
        </p:nvPicPr>
        <p:blipFill>
          <a:blip r:embed="rId1"/>
          <a:stretch/>
        </p:blipFill>
        <p:spPr>
          <a:xfrm>
            <a:off x="685800" y="457200"/>
            <a:ext cx="4648320" cy="5638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3"/>
          <p:cNvSpPr/>
          <p:nvPr/>
        </p:nvSpPr>
        <p:spPr>
          <a:xfrm>
            <a:off x="5880240" y="3581280"/>
            <a:ext cx="27820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СНЕЦ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ИКТОР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МИХАЙЛ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48 – 1926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Рисунок 1" descr="http://tainy.net/wp-content/uploads/2010/11/1266993421_image0011.jpg"/>
          <p:cNvPicPr/>
          <p:nvPr/>
        </p:nvPicPr>
        <p:blipFill>
          <a:blip r:embed="rId1"/>
          <a:stretch/>
        </p:blipFill>
        <p:spPr>
          <a:xfrm>
            <a:off x="990720" y="380880"/>
            <a:ext cx="7391160" cy="54104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3"/>
          <p:cNvSpPr/>
          <p:nvPr/>
        </p:nvSpPr>
        <p:spPr>
          <a:xfrm>
            <a:off x="3160080" y="6019920"/>
            <a:ext cx="23644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Garamond"/>
              </a:rPr>
              <a:t>БОГАТЫРИ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Рисунок 1" descr="http://i.flamber.ru/files/st1/1163446826/1300533709_o.jpg"/>
          <p:cNvPicPr/>
          <p:nvPr/>
        </p:nvPicPr>
        <p:blipFill>
          <a:blip r:embed="rId1"/>
          <a:stretch/>
        </p:blipFill>
        <p:spPr>
          <a:xfrm>
            <a:off x="914400" y="228600"/>
            <a:ext cx="5257800" cy="64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6881040" y="4267080"/>
            <a:ext cx="182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КОВЕР –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Garamond"/>
              </a:rPr>
              <a:t>САМОЛЕТ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АННОТАЦИЯ ПРОЕКТ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990720"/>
            <a:ext cx="87631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а рубеже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и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веков окружавший человека мир, стремительно изменяясь, приобрел существенно новые черты. Россия проходила стадию всесторонней модернизации. Слово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</a:rPr>
              <a:t>«модерн»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потребляли и для обозначения явлений</a:t>
            </a:r>
            <a:r>
              <a:rPr b="1" i="1" lang="ru-RU" sz="28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ультуры: говорили 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дернизме-совокуп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овых художествен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аправлений. Веч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пор в искусстве -между новы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 привычным, устоявшимся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достиг в это врем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райней остроты.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Рисунок 1" descr="http://www.artsait.ru/art/k/korovinSA/img/1sm.jpg"/>
          <p:cNvPicPr/>
          <p:nvPr/>
        </p:nvPicPr>
        <p:blipFill>
          <a:blip r:embed="rId1"/>
          <a:stretch/>
        </p:blipFill>
        <p:spPr>
          <a:xfrm>
            <a:off x="1143000" y="228600"/>
            <a:ext cx="4762440" cy="647712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6085440" y="2666880"/>
            <a:ext cx="27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РОВ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КОНСТАНТИН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АЛЕКС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61 – 1939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Рисунок 1" descr="http://s46.radikal.ru/i111/0807/a6/8b8658fad370.jpg"/>
          <p:cNvPicPr/>
          <p:nvPr/>
        </p:nvPicPr>
        <p:blipFill>
          <a:blip r:embed="rId1"/>
          <a:stretch/>
        </p:blipFill>
        <p:spPr>
          <a:xfrm>
            <a:off x="762120" y="380880"/>
            <a:ext cx="7619760" cy="52578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3680640" y="5943600"/>
            <a:ext cx="1703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ЗИМО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3" name="Рисунок 1" descr="http://paintingart.ru/joomgallery/details/___3/__4/___32/_20111012_1354897190.jpg"/>
          <p:cNvPicPr/>
          <p:nvPr/>
        </p:nvPicPr>
        <p:blipFill>
          <a:blip r:embed="rId1"/>
          <a:stretch/>
        </p:blipFill>
        <p:spPr>
          <a:xfrm>
            <a:off x="838080" y="304920"/>
            <a:ext cx="7543800" cy="5333760"/>
          </a:xfrm>
          <a:prstGeom prst="rect">
            <a:avLst/>
          </a:prstGeom>
          <a:ln w="0">
            <a:noFill/>
          </a:ln>
        </p:spPr>
      </p:pic>
      <p:sp>
        <p:nvSpPr>
          <p:cNvPr id="184" name="TextBox 3"/>
          <p:cNvSpPr/>
          <p:nvPr/>
        </p:nvSpPr>
        <p:spPr>
          <a:xfrm>
            <a:off x="1838520" y="5867280"/>
            <a:ext cx="5065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100" spc="-1" strike="noStrike">
                <a:solidFill>
                  <a:srgbClr val="ffffff"/>
                </a:solidFill>
                <a:latin typeface="Garamond"/>
              </a:rPr>
              <a:t>МОСКВОРЕЦКИЙ МОСТ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сканирование0001"/>
          <p:cNvPicPr/>
          <p:nvPr/>
        </p:nvPicPr>
        <p:blipFill>
          <a:blip r:embed="rId1"/>
          <a:stretch/>
        </p:blipFill>
        <p:spPr>
          <a:xfrm>
            <a:off x="0" y="3124080"/>
            <a:ext cx="2819520" cy="37339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Monotype Corsiva"/>
              </a:rPr>
              <a:t>ВЕСТНИК ИНЫХ МИРОВ</a:t>
            </a:r>
            <a:br>
              <a:rPr sz="36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352320" y="1294920"/>
            <a:ext cx="5334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воплотивший в своей судьбе новый тип  художник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ворца-демиурга и прозревател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айн жизни, поражал зрителе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амобытной манерой письма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казавшейся пророческой для нов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художественных направле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рубель, как всякий предтеч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был одинок. Он вызывал недоум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человек и возмущен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ак художник. Лишь в конце жизни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гда Врубель был погружен в мр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едсмертного, к нему пришло призна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304920" y="1981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e3e3ff"/>
                </a:solidFill>
                <a:latin typeface="Arial"/>
              </a:rPr>
              <a:t>М. А. Врубель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5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ЗНАМЕНИТЫЕ</a:t>
            </a:r>
            <a:r>
              <a:rPr b="1" i="1" lang="ru-RU" sz="4400" spc="-1" strike="noStrike">
                <a:solidFill>
                  <a:srgbClr val="e3e3ff"/>
                </a:solidFill>
                <a:latin typeface="Monotype Corsiva"/>
              </a:rPr>
              <a:t> </a:t>
            </a:r>
            <a:r>
              <a:rPr b="1" i="1" lang="ru-RU" sz="4400" spc="-1" strike="noStrike">
                <a:solidFill>
                  <a:srgbClr val="0000ff"/>
                </a:solidFill>
                <a:latin typeface="Monotype Corsiva"/>
              </a:rPr>
              <a:t>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1219320"/>
            <a:ext cx="556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 - персонаж древнегрече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мифологии, но в полот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метно «обрусел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ан, божество ле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 полей, выступает ее символ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сканирование0002"/>
          <p:cNvPicPr/>
          <p:nvPr/>
        </p:nvPicPr>
        <p:blipFill>
          <a:blip r:embed="rId1"/>
          <a:stretch/>
        </p:blipFill>
        <p:spPr>
          <a:xfrm>
            <a:off x="5364000" y="2743200"/>
            <a:ext cx="378000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620"/>
                            </p:stCondLst>
                            <p:childTnLst>
                              <p:par>
                                <p:cTn id="2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460"/>
                            </p:stCondLst>
                            <p:childTnLst>
                              <p:par>
                                <p:cTn id="2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86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58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30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542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Monotype Corsiva"/>
              </a:rPr>
              <a:t>«СИМВОЛ НАШЕГО ВРЕМЕНИ»</a:t>
            </a:r>
            <a:br>
              <a:rPr sz="3600"/>
            </a:br>
            <a:r>
              <a:rPr b="0" i="1" lang="ru-RU" sz="3600" spc="-1" strike="noStrike">
                <a:solidFill>
                  <a:srgbClr val="e3e3ff"/>
                </a:solidFill>
                <a:latin typeface="Arial"/>
              </a:rPr>
              <a:t>   </a:t>
            </a:r>
            <a:r>
              <a:rPr b="0" i="1" lang="ru-RU" sz="2900" spc="-1" strike="noStrike">
                <a:solidFill>
                  <a:srgbClr val="e3e3ff"/>
                </a:solidFill>
                <a:latin typeface="Arial"/>
              </a:rPr>
              <a:t>А. Блок</a:t>
            </a:r>
            <a:endParaRPr b="0" lang="en-US" sz="29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0" y="1218960"/>
            <a:ext cx="5410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ДЕМОН,- по слова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художника – дух н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только злоб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колько страдающ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и скорбный, при это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ух властный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еличавый. Влюбленны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 картину Блок писал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Ни день, ни ночь, ни мрак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и свет».</a:t>
            </a:r>
            <a:r>
              <a:rPr b="0" lang="ru-RU" sz="2800" spc="-1" strike="noStrike">
                <a:solidFill>
                  <a:srgbClr val="46341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4" descr="сканирование0003"/>
          <p:cNvPicPr/>
          <p:nvPr/>
        </p:nvPicPr>
        <p:blipFill>
          <a:blip r:embed="rId1"/>
          <a:stretch/>
        </p:blipFill>
        <p:spPr>
          <a:xfrm>
            <a:off x="5105520" y="2362320"/>
            <a:ext cx="4038480" cy="289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14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2780"/>
                            </p:stCondLst>
                            <p:childTnLst>
                              <p:par>
                                <p:cTn id="3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420"/>
                            </p:stCondLst>
                            <p:childTnLst>
                              <p:par>
                                <p:cTn id="3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5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7" dur="8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4140"/>
                            </p:stCondLst>
                            <p:childTnLst>
                              <p:par>
                                <p:cTn id="3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80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860"/>
                            </p:stCondLst>
                            <p:childTnLst>
                              <p:par>
                                <p:cTn id="3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380"/>
                            </p:stCondLst>
                            <p:childTnLst>
                              <p:par>
                                <p:cTn id="3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3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4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5" dur="80"/>
                                        <p:tgtEl>
                                          <p:spTgt spid="1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6220"/>
                            </p:stCondLst>
                            <p:childTnLst>
                              <p:par>
                                <p:cTn id="3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80"/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6980"/>
                            </p:stCondLst>
                            <p:childTnLst>
                              <p:par>
                                <p:cTn id="3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5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6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7" dur="80"/>
                                        <p:tgtEl>
                                          <p:spTgt spid="1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9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1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Рисунок 1" descr="http://img0.liveinternet.ru/images/attach/c/2/68/696/68696996_e4ebd4e6.jpg"/>
          <p:cNvPicPr/>
          <p:nvPr/>
        </p:nvPicPr>
        <p:blipFill>
          <a:blip r:embed="rId1"/>
          <a:stretch/>
        </p:blipFill>
        <p:spPr>
          <a:xfrm>
            <a:off x="914400" y="304920"/>
            <a:ext cx="4648320" cy="6324480"/>
          </a:xfrm>
          <a:prstGeom prst="rect">
            <a:avLst/>
          </a:prstGeom>
          <a:ln w="0">
            <a:noFill/>
          </a:ln>
        </p:spPr>
      </p:pic>
      <p:sp>
        <p:nvSpPr>
          <p:cNvPr id="199" name="TextBox 5"/>
          <p:cNvSpPr/>
          <p:nvPr/>
        </p:nvSpPr>
        <p:spPr>
          <a:xfrm>
            <a:off x="5972760" y="3048120"/>
            <a:ext cx="306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Garamond"/>
              </a:rPr>
              <a:t>ЦАРЕВНА –ЛЕБЕДЬ</a:t>
            </a:r>
            <a:endParaRPr b="0" lang="en-US" sz="23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1" name="Рисунок 1" descr="http://900igr.net/datas/mkhk/Arkhitektura-nachala-20-veka/0008-008-Nachalo-XX-veka.jpg"/>
          <p:cNvPicPr/>
          <p:nvPr/>
        </p:nvPicPr>
        <p:blipFill>
          <a:blip r:embed="rId1"/>
          <a:stretch/>
        </p:blipFill>
        <p:spPr>
          <a:xfrm>
            <a:off x="152280" y="228600"/>
            <a:ext cx="8839440" cy="647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Рисунок 1" descr="http://www.mskvd.ru/images/moscow_arhitektors/449px-fyodor_schechtel_1890th-05032012.jpg"/>
          <p:cNvPicPr/>
          <p:nvPr/>
        </p:nvPicPr>
        <p:blipFill>
          <a:blip r:embed="rId1"/>
          <a:stretch/>
        </p:blipFill>
        <p:spPr>
          <a:xfrm>
            <a:off x="685800" y="457200"/>
            <a:ext cx="4276800" cy="5705640"/>
          </a:xfrm>
          <a:prstGeom prst="rect">
            <a:avLst/>
          </a:prstGeom>
          <a:ln w="0">
            <a:noFill/>
          </a:ln>
        </p:spPr>
      </p:pic>
      <p:sp>
        <p:nvSpPr>
          <p:cNvPr id="204" name="TextBox 3"/>
          <p:cNvSpPr/>
          <p:nvPr/>
        </p:nvSpPr>
        <p:spPr>
          <a:xfrm>
            <a:off x="5992200" y="2590920"/>
            <a:ext cx="18586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Шехтель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Федор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Осипович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6" name="Рисунок 1" descr="http://900igr.net/datas/mkhk/Arkhitektura-nachala-20-veka/0011-011-Modern.jpg"/>
          <p:cNvPicPr/>
          <p:nvPr/>
        </p:nvPicPr>
        <p:blipFill>
          <a:blip r:embed="rId1"/>
          <a:stretch/>
        </p:blipFill>
        <p:spPr>
          <a:xfrm>
            <a:off x="219240" y="249120"/>
            <a:ext cx="8772480" cy="63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288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Monotype Corsiva"/>
              </a:rPr>
              <a:t>Цели и задачи мероприяти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-360" y="1066320"/>
            <a:ext cx="83026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Цел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знакомить учащихся с достижениями русской культуры начала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XX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ве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двести учащихся к пониманию су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99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художественных ценностей новых        направлений в искусстве начала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Задачи: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Формировать умения делать вывод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грамотно излагать материа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8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4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240"/>
                            </p:stCondLst>
                            <p:childTnLst>
                              <p:par>
                                <p:cTn id="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6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06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8" name="Рисунок 1" descr="http://f12.ifotki.info/org/c7cb00293294c5e29d6b1c633ffaa0ffbc5f6c140900195.jpg"/>
          <p:cNvPicPr/>
          <p:nvPr/>
        </p:nvPicPr>
        <p:blipFill>
          <a:blip r:embed="rId1"/>
          <a:stretch/>
        </p:blipFill>
        <p:spPr>
          <a:xfrm>
            <a:off x="131760" y="457200"/>
            <a:ext cx="8894880" cy="5943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Рисунок 1" descr="http://www.kolohouse.ru/uploads/cgstories/id36/fomin_02.jpg"/>
          <p:cNvPicPr/>
          <p:nvPr/>
        </p:nvPicPr>
        <p:blipFill>
          <a:blip r:embed="rId1"/>
          <a:stretch/>
        </p:blipFill>
        <p:spPr>
          <a:xfrm>
            <a:off x="304920" y="0"/>
            <a:ext cx="5410080" cy="762012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6172200" y="2895480"/>
            <a:ext cx="281952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Фоми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Иван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3" name="Рисунок 1" descr="http://900igr.net/datas/mkhk/Arkhitektura-nachala-20-veka/0015-015-Neoklassitsizm.jpg"/>
          <p:cNvPicPr/>
          <p:nvPr/>
        </p:nvPicPr>
        <p:blipFill>
          <a:blip r:embed="rId1"/>
          <a:stretch/>
        </p:blipFill>
        <p:spPr>
          <a:xfrm>
            <a:off x="380880" y="380880"/>
            <a:ext cx="8331480" cy="624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Рисунок 1" descr="http://i0.newstube.ru/1788808l"/>
          <p:cNvPicPr/>
          <p:nvPr/>
        </p:nvPicPr>
        <p:blipFill>
          <a:blip r:embed="rId1"/>
          <a:stretch/>
        </p:blipFill>
        <p:spPr>
          <a:xfrm>
            <a:off x="-762120" y="609480"/>
            <a:ext cx="6477120" cy="50292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3"/>
          <p:cNvSpPr/>
          <p:nvPr/>
        </p:nvSpPr>
        <p:spPr>
          <a:xfrm>
            <a:off x="6332400" y="2743200"/>
            <a:ext cx="26326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Щусев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Алексе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Викторович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Garamond"/>
              </a:rPr>
              <a:t>(1873-1949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8" name="Рисунок 1" descr="http://www.kulichki.com/zritel/2008/image2008/kazan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219" name="TextBox 3"/>
          <p:cNvSpPr/>
          <p:nvPr/>
        </p:nvSpPr>
        <p:spPr>
          <a:xfrm>
            <a:off x="1144800" y="6095880"/>
            <a:ext cx="6633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Garamond"/>
              </a:rPr>
              <a:t>КАЗАНСКИЙ ВОКЗАЛ В МОСКВЕ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1" name="Рисунок 1" descr="http://www.aif.by/media/k2/items/cache/46d119b0fce0513a8f317451330a29c3_L.jpg"/>
          <p:cNvPicPr/>
          <p:nvPr/>
        </p:nvPicPr>
        <p:blipFill>
          <a:blip r:embed="rId1"/>
          <a:stretch/>
        </p:blipFill>
        <p:spPr>
          <a:xfrm>
            <a:off x="380880" y="380880"/>
            <a:ext cx="5715000" cy="430560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790920" y="5486400"/>
            <a:ext cx="7693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Garamond"/>
              </a:rPr>
              <a:t>Рахманинов Сергей Васильевич (1873 – 1943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4" name="Рисунок 1" descr="http://cdn.haberfx.net/images/photo/164/8.jpg"/>
          <p:cNvPicPr/>
          <p:nvPr/>
        </p:nvPicPr>
        <p:blipFill>
          <a:blip r:embed="rId1"/>
          <a:stretch/>
        </p:blipFill>
        <p:spPr>
          <a:xfrm>
            <a:off x="838080" y="533520"/>
            <a:ext cx="4419720" cy="5779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3"/>
          <p:cNvSpPr/>
          <p:nvPr/>
        </p:nvSpPr>
        <p:spPr>
          <a:xfrm>
            <a:off x="6264720" y="3048120"/>
            <a:ext cx="259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травински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Игорь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Федоро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82 – 1971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Рисунок 1" descr="http://s3.timetoast.com/public/uploads/photos/3105179/imagesCA7337FD.jpg?1351869199"/>
          <p:cNvPicPr/>
          <p:nvPr/>
        </p:nvPicPr>
        <p:blipFill>
          <a:blip r:embed="rId1"/>
          <a:stretch/>
        </p:blipFill>
        <p:spPr>
          <a:xfrm>
            <a:off x="326880" y="380880"/>
            <a:ext cx="4488120" cy="5867640"/>
          </a:xfrm>
          <a:prstGeom prst="rect">
            <a:avLst/>
          </a:prstGeom>
          <a:ln w="0">
            <a:noFill/>
          </a:ln>
        </p:spPr>
      </p:pic>
      <p:sp>
        <p:nvSpPr>
          <p:cNvPr id="228" name="TextBox 3"/>
          <p:cNvSpPr/>
          <p:nvPr/>
        </p:nvSpPr>
        <p:spPr>
          <a:xfrm>
            <a:off x="5958720" y="2819520"/>
            <a:ext cx="234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Прокофьев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й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Сергеевич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Garamond"/>
              </a:rPr>
              <a:t>(1891 – 1953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ff"/>
                </a:solidFill>
                <a:latin typeface="Monotype Corsiva"/>
              </a:rPr>
              <a:t>Вывод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88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Серебряный век рассматривается как период расцвета духовной культуры, котор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чался в 90 годы XIX в. и завершился в конце 20-х годов XX в. Оставил колоссальный след в развитии российского об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3300"/>
                            </p:stCondLst>
                            <p:childTnLst>
                              <p:par>
                                <p:cTn id="4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71,12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3e3ff"/>
                </a:solidFill>
                <a:latin typeface="Monotype Corsiva"/>
              </a:rPr>
              <a:t>Наука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к П.Н.Лебедев создал первую в России физическую шкалу, а также сделал открытия в области физики вол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усский учёный В.И. Вернадский создал учения о биосфере и ноосфере, которые заложили основу современной эколог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Физиолог И.П.Павлов создал учение о высшей нервной деятельности. В 1904г. Ему была присвоена Нобелевская премия за исследования в физиологии пищевар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Ряд выдающихся открытий в практике самолётостроения сделал Н.Е.Жуков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j0305257"/>
          <p:cNvPicPr/>
          <p:nvPr/>
        </p:nvPicPr>
        <p:blipFill>
          <a:blip r:embed="rId1"/>
          <a:stretch/>
        </p:blipFill>
        <p:spPr>
          <a:xfrm>
            <a:off x="7380360" y="4653000"/>
            <a:ext cx="136836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Monotype Corsiva"/>
              </a:rPr>
              <a:t>Кинематография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2" descr="latvia1d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появления нового вида искусства – кинематографии. К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4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оду в России было построено около 4тыс. кинотеатр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08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. была снята первая русская игровая картина «Стенька Разин и княжна», а в 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1911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г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. – первый фильм «Оборона Севастопол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России появляются деятели кино с мировыми именами: реж. Я.Протазанов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актёры И. Мозжухин, В.Максимов и многие друг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2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7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9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6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463416"/>
                </a:solidFill>
                <a:latin typeface="Monotype Corsiva"/>
              </a:rPr>
              <a:t>Музык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5" name="Picture 2" descr="italija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Bookman Old Style"/>
              </a:rPr>
              <a:t>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Начало ХХ века – время творческого взлёта великих русских композиторов А.Скрябина, И. Стравинского, С.Рахманинова и др.</a:t>
            </a: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ffcc"/>
                </a:solidFill>
                <a:latin typeface="Bookman Old Style"/>
              </a:rPr>
              <a:t> 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В своём творчестве они пытались вырваться из рамок традиционной классической музыки, создать новые музыкальные формы и образ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Значительного расцвета достигла музыкальная исполнительная культу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      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Самыми знаменитыми людьми того времени были  Ф.Шаляпин, А.Нежданова, Л.Собинова, И.Ерш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0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4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104602591571050878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Monotype Corsiva"/>
              </a:rPr>
              <a:t>Литература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620280"/>
            <a:ext cx="91440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ccff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Среди поэтов начала ХХ века происходит деление на символистов, акмеистов и футурист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Символ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были против оскудения русской поэзии. Они считали, что поэт наделён способностью приобщения к запредельному миру посредством художественных символ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Акмеисты 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(от греч. «акме» - высшая степень чего-либо) призывали возвратить словам их традиционный смысл, освободив от символических толкований. Для акмеистов (Н.Гумилёв, А.Ахматова, М. Зенкевич, В. Нарбут) были характерны красота и отточенность художественного сл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cecff"/>
                </a:solidFill>
                <a:uFillTx/>
                <a:latin typeface="Comic Sans MS"/>
              </a:rPr>
              <a:t>Футуристы</a:t>
            </a:r>
            <a:r>
              <a:rPr b="1" i="1" lang="ru-RU" sz="2400" spc="-1" strike="noStrike">
                <a:solidFill>
                  <a:srgbClr val="ccecff"/>
                </a:solidFill>
                <a:latin typeface="Comic Sans MS"/>
              </a:rPr>
              <a:t> (В. Хлебников, Д. Бурлюк, В.Маяковский, Е. Гуро) утверждали своё право на конструирование новых слов. Футуристы ориентировались также на вызывающую антиэстетичность.</a:t>
            </a:r>
            <a:r>
              <a:rPr b="1" i="1" lang="ru-RU" sz="2400" spc="-1" strike="noStrike">
                <a:solidFill>
                  <a:srgbClr val="99ccff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7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7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700"/>
                            </p:stCondLst>
                            <p:childTnLst>
                              <p:par>
                                <p:cTn id="18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4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4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6100"/>
                            </p:stCondLst>
                            <p:childTnLst>
                              <p:par>
                                <p:cTn id="186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38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8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9900"/>
                            </p:stCondLst>
                            <p:childTnLst>
                              <p:par>
                                <p:cTn id="192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39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9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WordArt 3"/>
          <p:cNvSpPr txBox="1"/>
          <p:nvPr/>
        </p:nvSpPr>
        <p:spPr>
          <a:xfrm>
            <a:off x="380880" y="914400"/>
            <a:ext cx="8382240" cy="11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c0c0c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Живопись серебряного века</a:t>
            </a:r>
            <a:endParaRPr b="1" lang="en-US" sz="4000" spc="1" strike="noStrike">
              <a:ln w="12600">
                <a:solidFill>
                  <a:srgbClr val="0000ff"/>
                </a:solidFill>
                <a:miter/>
              </a:ln>
              <a:solidFill>
                <a:srgbClr val="c0c0c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-394200" y="2895480"/>
            <a:ext cx="1003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Художников Серебряного века интересовали не глоба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исторические события, а эстетика русского быта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утонченная красота древнерусского узорочья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роникновенным лиризмом, глубоким пониманием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воеобразия жизненного уклад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отмечены лучшие полотна художник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Рисунок 1" descr="http://img0.liveinternet.ru/images/attach/c/1/56/585/56585457_Portret_hudozhnika_Surikova.jpg"/>
          <p:cNvPicPr/>
          <p:nvPr/>
        </p:nvPicPr>
        <p:blipFill>
          <a:blip r:embed="rId1"/>
          <a:stretch/>
        </p:blipFill>
        <p:spPr>
          <a:xfrm>
            <a:off x="380880" y="304920"/>
            <a:ext cx="4419720" cy="59436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3"/>
          <p:cNvSpPr/>
          <p:nvPr/>
        </p:nvSpPr>
        <p:spPr>
          <a:xfrm>
            <a:off x="5821920" y="2362320"/>
            <a:ext cx="33217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СЕРОВ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ВАЛЕНТИН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АЛЕКСАНДРОВИЧ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Garamond"/>
              </a:rPr>
              <a:t>(1865 -1911)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da</cp:lastModifiedBy>
  <dcterms:modified xsi:type="dcterms:W3CDTF">2014-03-01T18:46:00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